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D9A6D-016A-4264-95B4-1F3C9ED9B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E0791-19F6-4B33-A1D3-40D68F6B8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633EA-7C84-45E5-BAAB-38023F06E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D4BB2-89A9-4E9D-9E33-598CE123D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A4FE3-74BB-432C-A217-D8B4C96DF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8E40D-8DBB-400C-A8A1-080DEDC55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7CDF7-B79B-47D5-9749-26172F072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5CD1E-25BD-4E1A-812E-EEABD8C0F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CF1D0-7E73-435C-AC4C-F949EA8A9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7BB9F-17FE-4A06-81E6-6D18F4760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E0A28-ADB3-4DD5-8143-EA6BC6443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25E5A-3E66-482B-B252-E96B31B4B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7F8F8-748D-4EDD-BE40-EC66D34581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009800"/>
            <a:ext cx="7772400" cy="25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mon Algebra Erro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3" descr="wrong.jpg"/>
          <p:cNvPicPr/>
          <p:nvPr/>
        </p:nvPicPr>
        <p:blipFill>
          <a:blip r:embed="rId1"/>
          <a:stretch/>
        </p:blipFill>
        <p:spPr>
          <a:xfrm>
            <a:off x="2639880" y="3048120"/>
            <a:ext cx="358776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nceling Errors…one mo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3"/>
          <p:cNvSpPr/>
          <p:nvPr/>
        </p:nvSpPr>
        <p:spPr>
          <a:xfrm>
            <a:off x="1143000" y="2057400"/>
            <a:ext cx="80010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ve 2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We can cancel one x from both sides to get 2x = 1 or x = ½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his is a solution, but there is something we missed!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an you tell what it 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79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6"/>
          <p:cNvSpPr/>
          <p:nvPr/>
        </p:nvSpPr>
        <p:spPr>
          <a:xfrm>
            <a:off x="1066680" y="5105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7"/>
          <p:cNvSpPr/>
          <p:nvPr/>
        </p:nvSpPr>
        <p:spPr>
          <a:xfrm>
            <a:off x="1219320" y="403848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nceling Errors…one mo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1143000" y="2057400"/>
            <a:ext cx="800100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e’s a better way to solve 2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x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rst we get everything on one side: 2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x 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xt, we factor: x(2x – 1) 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this we see that  x = 0 OR 2x – 1 = 0 will 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still get x = ½, but we also have x = 0 as a solu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85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6"/>
          <p:cNvSpPr/>
          <p:nvPr/>
        </p:nvSpPr>
        <p:spPr>
          <a:xfrm>
            <a:off x="1066680" y="5105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7"/>
          <p:cNvSpPr/>
          <p:nvPr/>
        </p:nvSpPr>
        <p:spPr>
          <a:xfrm>
            <a:off x="1219320" y="403848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’s my square roo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1143000" y="20574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ember that square roots ar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ositive or zer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91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6"/>
          <p:cNvSpPr/>
          <p:nvPr/>
        </p:nvSpPr>
        <p:spPr>
          <a:xfrm>
            <a:off x="1066680" y="5105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7"/>
          <p:cNvSpPr/>
          <p:nvPr/>
        </p:nvSpPr>
        <p:spPr>
          <a:xfrm>
            <a:off x="1219320" y="403848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1295280" y="2895480"/>
                <a:ext cx="110520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e>
                    </m:rad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5" name="Text Box 9"/>
          <p:cNvSpPr/>
          <p:nvPr/>
        </p:nvSpPr>
        <p:spPr>
          <a:xfrm>
            <a:off x="2514600" y="2895480"/>
            <a:ext cx="2057400" cy="10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OT     </a:t>
            </a:r>
            <a:r>
              <a:rPr b="0" lang="en-US" sz="2400" spc="-1" strike="noStrike" u="sng" baseline="30000">
                <a:solidFill>
                  <a:srgbClr val="ff0000"/>
                </a:solidFill>
                <a:uFillTx/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10"/>
          <p:cNvSpPr/>
          <p:nvPr/>
        </p:nvSpPr>
        <p:spPr>
          <a:xfrm>
            <a:off x="1143000" y="3657600"/>
            <a:ext cx="8001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when solving 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16, the answer is x = </a:t>
            </a:r>
            <a:r>
              <a:rPr b="0" lang="en-US" sz="2400" spc="-1" strike="noStrike" u="sng" baseline="30000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4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’s my square root? continu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1143000" y="20574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e’s the solution with all steps includ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00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6"/>
          <p:cNvSpPr/>
          <p:nvPr/>
        </p:nvSpPr>
        <p:spPr>
          <a:xfrm>
            <a:off x="1066680" y="5105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7"/>
          <p:cNvSpPr/>
          <p:nvPr/>
        </p:nvSpPr>
        <p:spPr>
          <a:xfrm>
            <a:off x="1219320" y="403848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9"/>
          <p:cNvSpPr/>
          <p:nvPr/>
        </p:nvSpPr>
        <p:spPr>
          <a:xfrm>
            <a:off x="2514600" y="2895480"/>
            <a:ext cx="2057400" cy="10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1676520" y="2666880"/>
                <a:ext cx="1261800" cy="141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±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</m:e>
                        </m:rad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±</m:t>
                        </m:r>
                        <m:r>
                          <m:t xml:space="preserve">4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5" name="Text Box 12"/>
          <p:cNvSpPr/>
          <p:nvPr/>
        </p:nvSpPr>
        <p:spPr>
          <a:xfrm>
            <a:off x="1143000" y="4648320"/>
            <a:ext cx="6781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ICE: The </a:t>
            </a:r>
            <a:r>
              <a:rPr b="0" lang="en-US" sz="2400" spc="-1" strike="noStrike" u="sng" baseline="30000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hows up BEFORE not after we take the square ro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raction Frenzy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914400" y="1981080"/>
            <a:ext cx="8001000" cy="458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can write        or       .   But when we write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/3 x which do we mean? Writing     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x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also confus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so, writing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+ 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as   a + b/c + d  might be interpreted a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c + d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+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d.  To make it clear, write (a + b)/(c + d)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09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6"/>
          <p:cNvSpPr/>
          <p:nvPr/>
        </p:nvSpPr>
        <p:spPr>
          <a:xfrm>
            <a:off x="1066680" y="5105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7"/>
          <p:cNvSpPr/>
          <p:nvPr/>
        </p:nvSpPr>
        <p:spPr>
          <a:xfrm>
            <a:off x="1219320" y="403848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8"/>
          <p:cNvSpPr/>
          <p:nvPr/>
        </p:nvSpPr>
        <p:spPr>
          <a:xfrm>
            <a:off x="2514600" y="2895480"/>
            <a:ext cx="2057400" cy="10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2819520" y="1981080"/>
                <a:ext cx="38088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3657600" y="1981080"/>
                <a:ext cx="34128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5181480" y="2819520"/>
                <a:ext cx="241560" cy="62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erci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6"/>
          <p:cNvSpPr/>
          <p:nvPr/>
        </p:nvSpPr>
        <p:spPr>
          <a:xfrm>
            <a:off x="1066680" y="5105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7"/>
          <p:cNvSpPr/>
          <p:nvPr/>
        </p:nvSpPr>
        <p:spPr>
          <a:xfrm>
            <a:off x="1219320" y="403848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8"/>
          <p:cNvSpPr/>
          <p:nvPr/>
        </p:nvSpPr>
        <p:spPr>
          <a:xfrm>
            <a:off x="2514600" y="2895480"/>
            <a:ext cx="2057400" cy="10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11"/>
          <p:cNvSpPr/>
          <p:nvPr/>
        </p:nvSpPr>
        <p:spPr>
          <a:xfrm>
            <a:off x="914400" y="1295280"/>
            <a:ext cx="5791320" cy="69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quare 6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quare –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y 5(x – 4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and (x + y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ve 3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es                                  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          .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we simplify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lang="en-US" sz="2400" spc="-1" strike="noStrike" u="sng" baseline="30000">
                <a:solidFill>
                  <a:srgbClr val="000000"/>
                </a:solidFill>
                <a:uFillTx/>
                <a:latin typeface="Times New Roman"/>
              </a:rPr>
              <a:t>2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– 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?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2133720" y="4038480"/>
                <a:ext cx="259056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  <m:r>
                          <m:t xml:space="preserve">b</m:t>
                        </m:r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  <m:r>
                          <m:t xml:space="preserve">a</m:t>
                        </m:r>
                      </m:e>
                    </m:rad>
                    <m:r>
                      <m:t xml:space="preserve">+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6</m:t>
                        </m:r>
                        <m:r>
                          <m:t xml:space="preserve">b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2133720" y="4572000"/>
                <a:ext cx="6285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y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vision by zer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1143000" y="1600200"/>
            <a:ext cx="8001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r algebra 1 teacher told you this is wrong.  Your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acher told you this is wrong.  Your algebra 2 teacher told yo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wrong.  Put 2/0 in your calculator and even IT will tel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it’s wrong!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barrassing isn’t 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ryone knows that 0/2 = 0: nothing out of 2 is still nothing.  Still, far too many people will claim that 2/0 = 0 or even that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/0 = 2!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might not even not know you’re dividing by 0, as you’ll see in our next exampl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3"/>
          <p:cNvSpPr/>
          <p:nvPr/>
        </p:nvSpPr>
        <p:spPr>
          <a:xfrm>
            <a:off x="609480" y="2362320"/>
            <a:ext cx="7467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86"/>
          <p:cNvSpPr/>
          <p:nvPr/>
        </p:nvSpPr>
        <p:spPr>
          <a:xfrm>
            <a:off x="380880" y="1143000"/>
            <a:ext cx="807732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= 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 = 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y both sides by 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 – 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tract 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rom both sid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(a – b) = (a+b)(a-b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ctor both sid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 = a + 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vide both sides by a –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 = 2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assumed a = b abo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= 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vide both sides by 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happened?  Dividing by a – b is dividing by 0, since a = 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issed Parenthe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3"/>
          <p:cNvSpPr/>
          <p:nvPr/>
        </p:nvSpPr>
        <p:spPr>
          <a:xfrm>
            <a:off x="1143000" y="1981080"/>
            <a:ext cx="80010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 1:  Square 4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correct: 4x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rect: (4x)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(4)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x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16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 2: Square –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correct: -3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= -(3)(3) = -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rect: (-3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(-3)(-3) = 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issed Parenthe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1143000" y="2209680"/>
            <a:ext cx="8001000" cy="41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 3:  Subtract 4x – 5 from 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3x -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correct: x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+ 3x – 5 – 4x – 5 = x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– x –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rect: 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3x – 5 – (4x – 5) = 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3x – 5 – 4x + 5 = 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x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 4: Convert            to fractional expone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correct: = 7x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</a:rPr>
              <a:t>1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rect: = (7x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1/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3809880" y="4724280"/>
                <a:ext cx="692280" cy="49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7</m:t>
                        </m:r>
                        <m:r>
                          <m:t xml:space="preserve">x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complete Distribu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1143000" y="2209680"/>
            <a:ext cx="8001000" cy="41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 1:  Multiply 4(2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1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correct: = 8x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–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rect: 8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40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 2: Multiply 3(2x – 5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correct: = (6x – 15)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= 36x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– 180x + 2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rect: = 3(4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20x + 25) = 12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60x +7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ember that you must expand the exponent before distributing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56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sumed Add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1143000" y="4419720"/>
            <a:ext cx="8001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can prove that these aren’t true by simply plugging in some numbers…try i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60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2819520" y="1752480"/>
                <a:ext cx="3200400" cy="267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y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≠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y</m:t>
                            </m:r>
                          </m:e>
                        </m:rad>
                        <m:r>
                          <m:t xml:space="preserve">≠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x</m:t>
                            </m:r>
                          </m:e>
                        </m:rad>
                        <m:r>
                          <m:t xml:space="preserve">+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y</m:t>
                            </m:r>
                          </m:e>
                        </m:rad>
                      </m:e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y</m:t>
                            </m:r>
                          </m:den>
                        </m:f>
                        <m:r>
                          <m:t xml:space="preserve">≠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y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nceling Erro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3"/>
          <p:cNvSpPr/>
          <p:nvPr/>
        </p:nvSpPr>
        <p:spPr>
          <a:xfrm>
            <a:off x="1143000" y="2057400"/>
            <a:ext cx="8001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 1: Simplify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3x</a:t>
            </a:r>
            <a:r>
              <a:rPr b="0" lang="en-US" sz="2400" spc="-1" strike="noStrike" u="sng" baseline="30000">
                <a:solidFill>
                  <a:srgbClr val="000000"/>
                </a:solidFill>
                <a:uFillTx/>
                <a:latin typeface="Times New Roman"/>
              </a:rPr>
              <a:t>3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– x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correct:  3x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– x    OR  3x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– 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65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7"/>
          <p:cNvSpPr/>
          <p:nvPr/>
        </p:nvSpPr>
        <p:spPr>
          <a:xfrm>
            <a:off x="1066680" y="5105520"/>
            <a:ext cx="807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can’t cancel the x in the denominator against only one of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x’s in the numerat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2590920" y="3844800"/>
                <a:ext cx="2895480" cy="91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  <m:r>
                      <m:t xml:space="preserve">=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8" name="Text Box 9"/>
          <p:cNvSpPr/>
          <p:nvPr/>
        </p:nvSpPr>
        <p:spPr>
          <a:xfrm>
            <a:off x="1219320" y="403848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10"/>
          <p:cNvSpPr/>
          <p:nvPr/>
        </p:nvSpPr>
        <p:spPr>
          <a:xfrm>
            <a:off x="1143000" y="40384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rec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nceling Errors…continu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3"/>
          <p:cNvSpPr/>
          <p:nvPr/>
        </p:nvSpPr>
        <p:spPr>
          <a:xfrm>
            <a:off x="1143000" y="2057400"/>
            <a:ext cx="8001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kewise, we can’t simplify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3x</a:t>
            </a:r>
            <a:r>
              <a:rPr b="0" lang="en-US" sz="2400" spc="-1" strike="noStrike" u="sng" baseline="30000">
                <a:solidFill>
                  <a:srgbClr val="000000"/>
                </a:solidFill>
                <a:uFillTx/>
                <a:latin typeface="Times New Roman"/>
              </a:rPr>
              <a:t>3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– 1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an you tell why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7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6"/>
          <p:cNvSpPr/>
          <p:nvPr/>
        </p:nvSpPr>
        <p:spPr>
          <a:xfrm>
            <a:off x="1066680" y="5105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8"/>
          <p:cNvSpPr/>
          <p:nvPr/>
        </p:nvSpPr>
        <p:spPr>
          <a:xfrm>
            <a:off x="1219320" y="403848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7T23:28:50Z</dcterms:created>
  <dc:creator>Maia</dc:creator>
  <dc:description/>
  <dc:language>en-US</dc:language>
  <cp:lastModifiedBy>Salem High School</cp:lastModifiedBy>
  <dcterms:modified xsi:type="dcterms:W3CDTF">2011-09-08T15:01:20Z</dcterms:modified>
  <cp:revision>7</cp:revision>
  <dc:subject/>
  <dc:title>PowerPoint Presentation</dc:title>
</cp:coreProperties>
</file>